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B2CC-1657-404C-B5D0-038A12FAC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D80E-DD8B-4DFB-A543-46E5E2AB1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o “actualize” the lesson goal</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203E-27D0-4660-AB8D-B1C0C2062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848D-F675-40BD-9044-6CC029242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F2A3-7697-4754-80E8-A32C179F0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E8F3-843B-4941-8A26-B19B07689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460C-C3A0-49EA-9E99-E342BCAC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so focus on success criteria- what would good work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95EB-1749-4EC3-A7E1-D89825F93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6E05-8D15-4787-9488-971D278D4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just like with the big ideas, it might not be until we write a matching question that we really understand what the goal means. We will call it a consolidating question– it is in part 3 of a 3-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ds the teaching segment of the class and is a way to assess whether the goal was met.</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7C6A-352E-4496-9E0D-F8C3F272C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question allows for some choice. It’s always good if it’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ackwards design (or designing down) is the premise here for lesson planning.</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1EE7-F827-4A8E-9058-7A6E5308C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C309-B87C-4C25-835D-E1F2415A3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F0CA-A7EC-41A1-9DF4-6A8CA0685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B640-C850-4900-9494-8E885A54F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into account that I have not discussed the rest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12E2-B901-4633-84C2-4F37B5ABC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 through the process again, but this time with a grade 6 . Acknowledge that this may not be an expectation some participants teach, but this will help them better understand the process.</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A4E1-A47F-4289-9EF7-090D0AC95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B1B5-C88D-4611-9A08-0893F6B5C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tice the goal is not a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of is in the pudding- the consolidation question is on the next slide.</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67A1-788C-43CE-8FE9-721082624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question is “open” in the sense that students can interpret what “a little b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times in 8 minutes is 1 000 000 times in 800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8000 minutes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0B15-94F6-4991-9996-2F56C68B9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B59D-DF69-4009-890C-F1B7B99B0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7173-EA34-48FF-B507-6A1C7DE22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CC20-1C00-4D50-83AF-CF3261F98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repetition with a grade 9 expectation</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CDC8-45AB-4359-A30D-C2D75BAD8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EB94-1772-4316-A7B3-ED210B3CC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not procedural; but conceptual.</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009F-2D4C-43E3-A5D3-8C7920ABE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65D6-5CB3-4FCF-85AB-0D2CE92AF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499D-467A-4087-91A1-4A3E64D41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EDC4-0980-472B-8F9F-B67C1F374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7711-CD5C-4389-ACE0-7146A99EB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ht use dave martin stuff so they see what kids did</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162A-F6D5-462A-AE89-EF88E764F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will have proportional reasoning from grades 3, 5, 7, 10</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A697-F439-4BB1-9FB5-17B437268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so focus on success criteria- what would good work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0F35-976E-4455-8D8B-EC0967E1D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that follow are based on the Posing Powerful Questions template on the Ministry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eant to accompany a Match lesson template, but focus on the questions to be asked and a big idea informing the expec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6F00-96AB-43D5-B8B6-0B238EFE5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  It is curriculum specific, but assessable and concep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you think about where the math you’re doing is leading </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530D-FB21-4BD2-85DE-EF8F0F042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42771-472A-4CCA-B5BA-283FBBAB8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71C2-EB6E-4670-A27D-2B826F41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FADF-C569-4D58-889B-969C7CE85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3696-BA95-4FC7-AAEC-8094633FB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6EF6C-B376-40FF-9CCA-005DD03D7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164F-6EE9-4B7F-9EF6-1792ECE7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D3264-4BB1-4B8B-8472-0536B3FA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A3C4-9E9B-4B17-8655-04211825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D7C7-5291-43B1-A994-965CC284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9C6C-FFA3-4083-BB04-E3C32FE4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AF18-77A2-4DDF-B5FE-776CC7EFF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9AA9-22A1-4853-A6BB-10FC16822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C72C-4C8A-48F3-B8BF-48478795B79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
          <p:cNvSpPr txBox="1"/>
          <p:nvPr/>
        </p:nvSpPr>
        <p:spPr>
          <a:xfrm>
            <a:off x="45720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8 nickels to show a certain amount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take more or fewer dimes?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imes would it tak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 Talk to a partner.</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 relationship to either skip counting by 5s or the pattern in counting by 5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 recognition that there would be fewer dimes since they are worth mor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n understanding of a 2 for 1 trade even without calculating the 4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recognizes that odd numbers are not possible (and why) is good, but the why is importan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takes a known multiple of 4 and keeps adding 4 to it for other answers shows good insi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More open?</a:t>
            </a:r>
            <a:endParaRPr b="0" lang="en-US" sz="6000" spc="-1" strike="noStrike">
              <a:solidFill>
                <a:srgbClr val="0d469b"/>
              </a:solidFill>
              <a:latin typeface="Arial"/>
            </a:endParaRPr>
          </a:p>
        </p:txBody>
      </p:sp>
      <p:sp>
        <p:nvSpPr>
          <p:cNvPr id="7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open question might have b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wo different amounts that you could show with either only nickels or only d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number of nickels compare to the number of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the same both times?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cus is on the quality of the mathematical thinking and not the details of how many responses, organization of material, how closely directions are followed, et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ing response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4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monstrate an understanding of simple multiplicative relationships involving unit rates, through investigation using concrete materials</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2"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ing numbers provides information about characteristics of the numbers in the relationship.</a:t>
            </a:r>
            <a:endParaRPr b="0" lang="en-US" sz="3200" spc="-1" strike="noStrike">
              <a:solidFill>
                <a:srgbClr val="000000"/>
              </a:solidFill>
              <a:latin typeface="Arial"/>
            </a:endParaRPr>
          </a:p>
        </p:txBody>
      </p:sp>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8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what costs are possible or impossible based on a particular unit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had to buy lots of packages of hamburger buns for a school pic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several prices over $100 she could have spent and several she could not have spent and how you know.</a:t>
            </a:r>
            <a:endParaRPr b="0" lang="en-US" sz="3200" spc="-1" strike="noStrike">
              <a:solidFill>
                <a:srgbClr val="000000"/>
              </a:solidFill>
              <a:latin typeface="Arial"/>
            </a:endParaRPr>
          </a:p>
        </p:txBody>
      </p:sp>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88" name="Picture 9" descr="Screen shot 2011-06-16 at 1.34.17 PM.png"/>
          <p:cNvPicPr/>
          <p:nvPr/>
        </p:nvPicPr>
        <p:blipFill>
          <a:blip r:embed="rId1"/>
          <a:stretch/>
        </p:blipFill>
        <p:spPr>
          <a:xfrm>
            <a:off x="4952880" y="5181480"/>
            <a:ext cx="2394000" cy="1436760"/>
          </a:xfrm>
          <a:prstGeom prst="rect">
            <a:avLst/>
          </a:prstGeom>
          <a:ln w="0">
            <a:noFill/>
          </a:ln>
        </p:spPr>
      </p:pic>
      <p:sp>
        <p:nvSpPr>
          <p:cNvPr id="89" name="TextBox 10"/>
          <p:cNvSpPr/>
          <p:nvPr/>
        </p:nvSpPr>
        <p:spPr>
          <a:xfrm>
            <a:off x="7696080" y="495288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p:txBody>
      </p:sp>
      <p:sp>
        <p:nvSpPr>
          <p:cNvPr id="90" name="Freeform 11"/>
          <p:cNvSpPr/>
          <p:nvPr/>
        </p:nvSpPr>
        <p:spPr>
          <a:xfrm>
            <a:off x="7248600" y="4948200"/>
            <a:ext cx="1263600" cy="635040"/>
          </a:xfrm>
          <a:prstGeom prst="pie">
            <a:avLst/>
          </a:prstGeom>
          <a:noFill/>
          <a:ln w="25560">
            <a:solidFill>
              <a:srgbClr val="bbe0e3"/>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So how do we decide what to teach?</a:t>
            </a:r>
            <a:endParaRPr b="0" lang="en-US" sz="4800" spc="-1" strike="noStrike">
              <a:solidFill>
                <a:srgbClr val="0d469b"/>
              </a:solidFill>
              <a:latin typeface="Arial"/>
            </a:endParaRPr>
          </a:p>
        </p:txBody>
      </p:sp>
      <p:sp>
        <p:nvSpPr>
          <p:cNvPr id="53" name=""/>
          <p:cNvSpPr txBox="1"/>
          <p:nvPr/>
        </p:nvSpPr>
        <p:spPr>
          <a:xfrm>
            <a:off x="533520" y="2438280"/>
            <a:ext cx="8229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be inspired by an approach you see potential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an example very popular in some places right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3"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should be some values in each category, but the focus should be on the how they know.</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insight focusing on why, for example, two consecutive numbers are both not possible or numbers not four apart are not both possible etc. are particularly encourag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5"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recognizes that odd numbers are not possible (and why) is good, but the why is importan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takes a known multiple of 4 and keeps adding 4 to it for other answers shows good insi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At this point…</a:t>
            </a:r>
            <a:endParaRPr b="0" lang="en-US" sz="48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a partner about what makes you feel good, but what makes you feel nervous, about this approach of filtering expectations through big ideas and starting with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wo points to make or questions to 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get to bring these up a bit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 </a:t>
            </a:r>
            <a:endParaRPr b="0" lang="en-US" sz="6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6 expec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problems that arise from real-life situations and that relate to the magnitude of whole numbers up to    1 000 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equivalent representations for a numerical relationship. Each one may be useful in a different circum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that changing the form of a relationship using proportional thinking can be useful to solving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sp>
        <p:nvSpPr>
          <p:cNvPr id="106" name=""/>
          <p:cNvSpPr txBox="1"/>
          <p:nvPr/>
        </p:nvSpPr>
        <p:spPr>
          <a:xfrm>
            <a:off x="685800" y="1904760"/>
            <a:ext cx="8229600" cy="4724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t’s heart might beat 500 times in 4 minute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know how long it would take for the heart to beat 1 000 000 time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be a better, but equivalent, way to describe the rate 500 times in 4 minutes to start your thinking and why?</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equivalent rates might you use to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needs to speak to why the new description is equivalent to the old one using concepts and not just rul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needs to explain why the new form is useful.</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Arial"/>
              </a:rPr>
              <a:t>A Video Problem</a:t>
            </a:r>
            <a:endParaRPr b="0" lang="en-US" sz="48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o a “Dan Meyer” typ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atch a video and raise mathematical questions that arise from the vide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ould use the video to solve the problems they pro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recognizes that converting minutes to days involves an equivalence, too, e.g. 60 minutes:1 hour = 600 minutes: 10 hours  or 200 minutes: about 3 1/3 hours or 800 minutes at about 13 hour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matters?</a:t>
            </a:r>
            <a:endParaRPr b="0" lang="en-US" sz="54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9 expec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problems involving ratios, rates, and directly proportional relationships in various contexts using a variety of metho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Big Idea</a:t>
            </a:r>
            <a:endParaRPr b="0" lang="en-US" sz="5400" spc="-1" strike="noStrike">
              <a:solidFill>
                <a:srgbClr val="0d469b"/>
              </a:solidFill>
              <a:latin typeface="Arial"/>
            </a:endParaRPr>
          </a:p>
        </p:txBody>
      </p:sp>
      <p:sp>
        <p:nvSpPr>
          <p:cNvPr id="116" name=""/>
          <p:cNvSpPr txBox="1"/>
          <p:nvPr/>
        </p:nvSpPr>
        <p:spPr>
          <a:xfrm>
            <a:off x="60948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equivalent representations for a numerical relationship. Each may be more useful in a particular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sson goal</a:t>
            </a:r>
            <a:endParaRPr b="0" lang="en-US" sz="5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that determining correct distances on a scale diagram or real distances from a scale diagram involves creating equivalents to the scale ratio or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olidating question</a:t>
            </a:r>
            <a:endParaRPr b="0" lang="en-US" sz="54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a is looking at a scale diagram of her house. She noticed that the entrance to the kitchen and the front door that are really 6 m apart are 12 cm apart on the map. She said that’s all you need to know to figure out how far apart any two locations on the diagram really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agree or disagree? Explain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2"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you th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students were co-constructing criteria for a good answer, what do you think they would focus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4"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ent would need to recognize that no matter what the distance was on the map, there would be an equivalent rate (6m /12 cm) or ratio (600:12) and would explain how to get 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6"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also realize that if it is a scale diagram, you can’t have a different ratio in one part of the diagram as another and explain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At this point…</a:t>
            </a:r>
            <a:endParaRPr b="0" lang="en-US" sz="48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points you brought up or questions you had earl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m one more time to see if any of your ideas/concerns have 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s the time to share a number of these ideas/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o which path would you take?</a:t>
            </a:r>
            <a:endParaRPr b="0" lang="en-US" sz="4400" spc="-1" strike="noStrike">
              <a:solidFill>
                <a:srgbClr val="0d469b"/>
              </a:solidFill>
              <a:latin typeface="Arial"/>
            </a:endParaRPr>
          </a:p>
        </p:txBody>
      </p:sp>
      <p:sp>
        <p:nvSpPr>
          <p:cNvPr id="13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BLM you will receive there are choices of lesson goals and possible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choose one of the questions thinking about the following cri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Arial"/>
              </a:rPr>
              <a:t>I’d like you to…</a:t>
            </a:r>
            <a:endParaRPr b="0" lang="en-US" sz="4800" spc="-1" strike="noStrike">
              <a:solidFill>
                <a:srgbClr val="0d469b"/>
              </a:solidFill>
              <a:latin typeface="Arial"/>
            </a:endParaRPr>
          </a:p>
        </p:txBody>
      </p:sp>
      <p:sp>
        <p:nvSpPr>
          <p:cNvPr id="5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 proportional reasoning problem evoked by this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ink about what math ideas could come out of the investigation of that problem and why the math would be worth investig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H9VpwmtnOZ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o which path would you take?</a:t>
            </a:r>
            <a:endParaRPr b="0" lang="en-US" sz="44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s it focused on important 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ill it tell me if the student learned what I was hoping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would I hope to see to tell m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Now let’s think ….</a:t>
            </a:r>
            <a:endParaRPr b="0" lang="en-US" sz="48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what happens if you start with curriculum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Where are you now?</a:t>
            </a:r>
            <a:endParaRPr b="0" lang="en-US" sz="4800" spc="-1" strike="noStrike">
              <a:solidFill>
                <a:srgbClr val="0d469b"/>
              </a:solidFill>
              <a:latin typeface="Arial"/>
            </a:endParaRPr>
          </a:p>
        </p:txBody>
      </p:sp>
      <p:sp>
        <p:nvSpPr>
          <p:cNvPr id="6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an expectation. You have to decide what to focus on in a les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expectations on the hand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a colleague about how you currently decide how to focus your lesson and how you figure out what closing question you’d want to use to see if students had learned the main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2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stimate, count, and represent (using the ¢ symbol) the value of a collection of coins with a maximum value of one dollar.</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 </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are compared in many ways.</a:t>
            </a:r>
            <a:endParaRPr b="0" lang="en-US" sz="32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determine how to represent a cent amount using only one type of co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16:12:51Z</dcterms:created>
  <dc:creator>PSteele</dc:creator>
  <dc:description/>
  <dc:language>en-US</dc:language>
  <cp:lastModifiedBy>Marian Small</cp:lastModifiedBy>
  <dcterms:modified xsi:type="dcterms:W3CDTF">2011-06-20T16:42:36Z</dcterms:modified>
  <cp:revision>299</cp:revision>
  <dc:subject/>
  <dc:title>Slide 1</dc:title>
</cp:coreProperties>
</file>